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64B-B5CE-4F2B-9123-6A260553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6E0-3742-4EE0-BF27-B28573D8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C24-BC56-4933-9699-D889CC0D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6B7-7391-4E46-B7D0-CC2EECC0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404C-7D74-4759-AEEE-50B83D23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42D-1682-4CE1-847B-DCBD9BC5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952-CD06-48C9-96A3-0942D378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9FD-BAE6-410C-9459-83196C24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48C-CF5B-44CA-919D-EDBA1944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1EA-08A9-44B9-92B2-3B591950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41A-4319-4B12-A75E-D01A99BE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A09-EB60-4030-8C46-8F55E9DA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5FF9-3C96-4C51-B1A8-CBBC961A6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9880" y="3352680"/>
            <a:ext cx="609480" cy="304560"/>
            <a:chOff x="3809880" y="3352680"/>
            <a:chExt cx="609480" cy="304560"/>
          </a:xfrm>
        </p:grpSpPr>
        <p:sp>
          <p:nvSpPr>
            <p:cNvPr id="42" name=""/>
            <p:cNvSpPr/>
            <p:nvPr/>
          </p:nvSpPr>
          <p:spPr>
            <a:xfrm>
              <a:off x="3809880" y="3352680"/>
              <a:ext cx="6094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09880" y="3352680"/>
              <a:ext cx="60948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09880" y="350496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809880" y="3352680"/>
              <a:ext cx="6094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876920" y="2590920"/>
            <a:ext cx="304560" cy="457200"/>
            <a:chOff x="4876920" y="2590920"/>
            <a:chExt cx="304560" cy="457200"/>
          </a:xfrm>
        </p:grpSpPr>
        <p:sp>
          <p:nvSpPr>
            <p:cNvPr id="47" name=""/>
            <p:cNvSpPr/>
            <p:nvPr/>
          </p:nvSpPr>
          <p:spPr>
            <a:xfrm flipH="1">
              <a:off x="4876920" y="2590920"/>
              <a:ext cx="30456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5400000">
              <a:off x="4800600" y="2667240"/>
              <a:ext cx="45720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29200" y="2590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76920" y="2590920"/>
              <a:ext cx="30456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114800" y="2819520"/>
            <a:ext cx="1828800" cy="1371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638680" y="3352680"/>
            <a:ext cx="609480" cy="304560"/>
            <a:chOff x="5638680" y="3352680"/>
            <a:chExt cx="609480" cy="304560"/>
          </a:xfrm>
        </p:grpSpPr>
        <p:sp>
          <p:nvSpPr>
            <p:cNvPr id="53" name=""/>
            <p:cNvSpPr/>
            <p:nvPr/>
          </p:nvSpPr>
          <p:spPr>
            <a:xfrm>
              <a:off x="5638680" y="3352680"/>
              <a:ext cx="6094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38680" y="3352680"/>
              <a:ext cx="60948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38680" y="350496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5638680" y="3352680"/>
              <a:ext cx="6094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884480" y="41911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243828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243828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2514600"/>
            <a:ext cx="479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514600"/>
            <a:ext cx="479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124080"/>
            <a:ext cx="228600" cy="83844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72" y="76"/>
                  <a:pt x="0" y="152"/>
                  <a:pt x="0" y="240"/>
                </a:cubicBezTo>
                <a:cubicBezTo>
                  <a:pt x="0" y="328"/>
                  <a:pt x="72" y="428"/>
                  <a:pt x="144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323760" y="3124080"/>
            <a:ext cx="228600" cy="83844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72" y="76"/>
                  <a:pt x="0" y="152"/>
                  <a:pt x="0" y="240"/>
                </a:cubicBezTo>
                <a:cubicBezTo>
                  <a:pt x="0" y="328"/>
                  <a:pt x="72" y="428"/>
                  <a:pt x="144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952880" y="1904760"/>
            <a:ext cx="228600" cy="838080"/>
          </a:xfrm>
          <a:custGeom>
            <a:avLst/>
            <a:gdLst/>
            <a:ahLst/>
            <a:rect l="l" t="t" r="r" b="b"/>
            <a:pathLst>
              <a:path w="144" h="528">
                <a:moveTo>
                  <a:pt x="144" y="0"/>
                </a:moveTo>
                <a:cubicBezTo>
                  <a:pt x="72" y="76"/>
                  <a:pt x="0" y="152"/>
                  <a:pt x="0" y="240"/>
                </a:cubicBezTo>
                <a:cubicBezTo>
                  <a:pt x="0" y="328"/>
                  <a:pt x="72" y="428"/>
                  <a:pt x="144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1828800"/>
            <a:ext cx="182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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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33591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33591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29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3T13:25:19Z</dcterms:created>
  <dc:creator>QT</dc:creator>
  <dc:description/>
  <dc:language>en-US</dc:language>
  <cp:lastModifiedBy>QT</cp:lastModifiedBy>
  <cp:lastPrinted>2001-07-13T14:17:05Z</cp:lastPrinted>
  <dcterms:modified xsi:type="dcterms:W3CDTF">2001-07-23T13:32:19Z</dcterms:modified>
  <cp:revision>3</cp:revision>
  <dc:subject/>
  <dc:title>No Slide Title</dc:title>
</cp:coreProperties>
</file>